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92A2-2B89-43F2-BD56-21FBB662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048-1A98-47CE-BAF1-3B5DF7C6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CDA-1091-4FB6-9DF6-A927D647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E8A8-3A77-43DE-8CC2-5F60EA5F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F1E5-19E7-406E-B34D-C41D3E84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8A7-5676-4B27-A770-8EEB9B9F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CA8B-305E-433F-83BF-0CCB3B7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208-DA82-42B2-8B41-A0321975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C8E5-A976-4C96-A65F-1C7AFE64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82B-AE57-4F63-9A7B-55B5B50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9EC0-D678-46F7-8444-AF80B26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BFA-8D99-4DEC-AE2A-65FA4254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D89E-2D9A-496B-AE14-C8662A53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697C-FBFB-44E8-B7B0-F227D1A0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E3A4-3403-46C4-BD34-B4545816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B306-BA09-4076-B40D-093875E3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8D5-599F-4623-B4B7-8386590E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8336-EA60-419B-935A-D828C671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7611-FD91-4D66-8EE7-7F9EB38F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D009B-80C0-4842-BF21-6D470CD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8FE3-2107-4C82-AC11-E0C28BB3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C8BF4-4621-4CE8-94FF-8076B018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4EE-805E-4F40-BB61-3CA2CD7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CCF45-EFEF-4ABC-8023-5A495FB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AECF-CDE6-492D-8EBC-4F5F8BED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B0D6-58EA-4D5A-9716-69FFDE8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CB39-4592-4D03-92B0-F1079E9F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D3EB2-A2D3-4996-A8D5-35F48F1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CEB00-5F95-47D1-9611-9D1DF626F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24306-15C6-4262-8DCD-96FB55ED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AF18-328A-4E68-B6E6-739EF0396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7A7D-0A10-404C-83DA-88EF862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386F7-EC67-4980-94FB-C287B082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941-3BDC-4057-BC55-FFD98A1A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5BF49-0595-4816-9587-1C7A5FDD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BBE8-F851-42BF-B557-82F1573C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9186C-5422-4A62-8A6E-A83DDF64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A1834-AC20-49E0-9D05-F476064B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AC08D-319D-4A0E-AAF4-CF8EC5FB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A85D-E4BB-4C68-8422-66531F73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1A63-9D5F-4626-A188-DEA5686F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C50F3-9580-488C-B20A-2EC73A56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A01E-5F88-4E0D-BA67-00B58FCE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DE3-6CDF-4863-90B9-414459DD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4E2-EA02-4C4A-B425-794F3DFC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CA4-064C-4356-B155-1AE49A17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579-9F6A-4EE2-A7B8-4620AF8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C3A-3D73-4626-8ED1-85FC2AC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58C2-75D9-4E25-955C-435481E43C4E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1287-0A8E-44C8-BD8D-7E7305E97EFD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EEA-9B54-475C-BCF9-DC415314D06C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5880" y="0"/>
              <a:ext cx="7998120" cy="6858000"/>
              <a:chOff x="1145880" y="0"/>
              <a:chExt cx="799812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8760" y="0"/>
                <a:ext cx="7995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5880" y="0"/>
                <a:ext cx="79981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2745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12745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635-A9AC-4D5F-9408-45A3B14078DC}" type="slidenum">
              <a:rPr b="0" lang="ru-RU" sz="1400" spc="-1" strike="noStrike">
                <a:solidFill>
                  <a:srgbClr val="212745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26920" y="1197000"/>
            <a:ext cx="57229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260c"/>
                </a:solidFill>
                <a:latin typeface="Constantia"/>
              </a:rPr>
              <a:t>Особенности</a:t>
            </a:r>
            <a:r>
              <a:rPr b="0" lang="ru-RU" sz="4300" spc="-1" strike="noStrike">
                <a:solidFill>
                  <a:srgbClr val="c3260c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c3260c"/>
                </a:solidFill>
                <a:latin typeface="Constantia"/>
              </a:rPr>
              <a:t>подготовки инновационнных общеобразовательных учреждений к государственной аккредит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547280" y="4868640"/>
            <a:ext cx="5712120" cy="3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8 сентября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620640"/>
            <a:ext cx="6964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55640" y="1628640"/>
            <a:ext cx="76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В системе внутреннего мониторинга качества образования не уделяется особого внимания качеству образования по предметам, изучаемым углубл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Внутришкольный контроль по данному направлению не организов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549360"/>
            <a:ext cx="7128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12 п.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34100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государственной аккредитации образовательного учреждения устанавливается его государственный статус, подтверждающий или изменяющий тип и (или) вид образовательного учрежде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 rot="10800000">
            <a:off x="1094760" y="548280"/>
            <a:ext cx="696420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6920" y="691920"/>
            <a:ext cx="7561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11-2012 учебном году было аккредитовано 68 инновационных учреждений Республики Татарстан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лицее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гимн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школы с углубле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м отдельных предме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1280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12 п.6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1700280"/>
            <a:ext cx="61959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ип и вид образовательного учреждения устанавливаются учредителем при создании образовательного учреждения и изменяются по решению учредите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99640" y="817200"/>
            <a:ext cx="7559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Типовое положение</a:t>
            </a:r>
            <a:br>
              <a:rPr sz="2800"/>
            </a:b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об общеобразовательном учрежде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71640" y="155700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редняя общеобразовательная школа с углубленным изучением отдельных предметов (реализует общеобразовательные программы начального общего,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одному или нескольким предметам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гимназия (реализует общеобразовательные программы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предметам гуманитарного профил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может реализовывать общеобразовательную программу начального общего образования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лицей (реализует общеобразовательные программы основного общего и среднего (полного) общего образования,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дополнительную (углубленную) подготовку обучающихся по предметам технического или естественно-научного профиля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может реализовывать общеобразовательную программу начального общего образования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5120" y="549000"/>
            <a:ext cx="69642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Типовое положение</a:t>
            </a:r>
            <a:br>
              <a:rPr sz="2800"/>
            </a:b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об общеобразовательном учрежде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4360" y="1483920"/>
            <a:ext cx="777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г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кретном общеобразовательн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реждении 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атываемыми и реализуемым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ым учреждение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стоятельно на осн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х образователь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тов и примерных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х учебных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урсов,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3260c"/>
                </a:solidFill>
                <a:latin typeface="Constantia"/>
              </a:rPr>
              <a:t>Закон РФ «Об образовании» ст.9 п.6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11280" y="1341000"/>
            <a:ext cx="792144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бщеобразовательны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ого общего, основного общего и среднего (полного) общего образова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спечивают реализац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государственного образовательног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ндарта с учетом типа и вида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овательных потребностей и запросов обучающихся, воспитаннико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включаю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б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ебный план, рабочие программ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х курсов, предметов, дисциплин (модулей) и другие материалы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спечивающ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-нравственное развитие, воспитание 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чество подготовк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55640" y="1557000"/>
            <a:ext cx="770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2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авах ОУ не указаны  виды реализуемых образователь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Локальные акты, регламентирующие учебный процесс, не отражают специфику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ализуемый учебный план не соответствует базисному учебному плану для общеобразовательных учреждений РТ, реализующих программы повышенного уровня (лицеев, гимназий, школ с углубленным изучением отдельных предметов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пояснительной записке не изложены особенности учебного плана в соответствии с целями образовательного учрежд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620280"/>
            <a:ext cx="69642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4360" y="1844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утствует системность и преемственность учебных планов за последние три года, что делает вообще невозможным реализацию программ, обеспечивающих дополнительную (углубленную) подгот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 определении списка предметов, изучаемых углубленно, не учитывается материально-техническое, кадровое, учебно-лабораторное, информационно-методическое обеспечение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5eccf3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475920"/>
            <a:ext cx="6964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3260c"/>
                </a:solidFill>
                <a:latin typeface="Constantia"/>
              </a:rPr>
              <a:t>Проблемы, выявленные при аккредитации инновационных образовательных учреждени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557360"/>
            <a:ext cx="7704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бочие программы по предметам, обеспечивающим дополнительную (углубленную) подготовку, разработаны форм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Выбор элективных курсов на ступени среднего (полного) общего образования производится нерационально, содержание курсов часто дублирует содержание стандарт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  Качество подготовки выпускников 9,11 классов анализируется  образовательным учреждением без учета вида учреждения (на этапе самообследова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07:49:58Z</dcterms:created>
  <dc:creator>Ludmila</dc:creator>
  <dc:description/>
  <dc:language>en-US</dc:language>
  <cp:lastModifiedBy>Ляйсан_Якуповна</cp:lastModifiedBy>
  <cp:lastPrinted>2012-09-27T10:27:36Z</cp:lastPrinted>
  <dcterms:modified xsi:type="dcterms:W3CDTF">2012-10-18T07:19:38Z</dcterms:modified>
  <cp:revision>29</cp:revision>
  <dc:subject/>
  <dc:title>Презентация PowerPoint</dc:title>
</cp:coreProperties>
</file>